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5BE-F914-48CC-87D0-1DDAF422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560-837A-4373-B61E-10F63DED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595-506B-4BA9-892F-48D5F93C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D87-F6F5-4DB4-B2B7-79C3712D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B90A-6C81-48E2-8565-FD32E944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BA5A-8061-48BD-BBBB-59BADF51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F7D-044D-41B2-B265-5E1C1D0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72C4-AAEF-4839-B869-509301FC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73B0-76AE-4633-94F4-4AB29C1A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A1EC-6678-4CD6-BB97-BEE80A9E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A377-149B-402F-BDC1-76BBFAE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78B-DF6B-45DE-B488-44033238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0823-708A-4466-85A3-A6BFA69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312D-93AA-4198-82BF-0D18E00B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B9A-C719-4397-B4C8-109F7058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08B5-5CE8-4EC0-8B9A-E8A27DAD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8488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74040" y="105264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36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8488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674040" y="3873600"/>
            <a:ext cx="29419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CA3-43BF-4831-A209-8761778D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3FF-48C8-4833-A2C5-AA4ADD2A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215-EB9A-474F-8D42-B9102909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081-2EEC-482D-9E43-5009ADC6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188640"/>
            <a:ext cx="913752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C6F-6ECB-4E7F-8B59-FC557D3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3FE-31B1-4D3B-BB13-0F0AB408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7520" y="387360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FFE-CFB2-4B69-8111-39FB0761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58040"/>
            <a:ext cx="9137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520" y="1052640"/>
            <a:ext cx="4458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73600"/>
            <a:ext cx="9137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B3E-B99A-40EB-8C0E-5628B92D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052640"/>
            <a:ext cx="913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865240" y="6248520"/>
            <a:ext cx="439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32168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8E93-B205-4077-8CEF-EFA3FDA44CAA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C75F-8B44-414C-8210-9C6DC0FC608C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 u="sng">
                <a:solidFill>
                  <a:srgbClr val="ffffff"/>
                </a:solidFill>
                <a:uFillTx/>
                <a:latin typeface="Arial"/>
              </a:rPr>
              <a:t>コンピュータ囲碁 </a:t>
            </a:r>
            <a:r>
              <a:rPr b="0" lang="ja-JP" sz="4400" spc="-1" strike="noStrike" u="sng">
                <a:solidFill>
                  <a:srgbClr val="ffffff"/>
                </a:solidFill>
                <a:uFillTx/>
                <a:latin typeface="Arial"/>
              </a:rPr>
              <a:t>2015 </a:t>
            </a:r>
            <a:r>
              <a:rPr b="0" lang="ja-JP" sz="4400" spc="-1" strike="noStrike" u="sng">
                <a:solidFill>
                  <a:srgbClr val="ffffff"/>
                </a:solidFill>
                <a:uFillTx/>
                <a:latin typeface="Arial"/>
              </a:rPr>
              <a:t>秋</a:t>
            </a:r>
            <a:br>
              <a:rPr sz="48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加藤英樹（チーム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eepZe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73240" y="2204640"/>
            <a:ext cx="7128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主なイベン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最近の主な対人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KGS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年間チャンピオ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主なトーナメントの結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4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KGS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の有段プログラ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第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4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回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CGF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オープン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980640"/>
            <a:ext cx="913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49240" y="1933560"/>
          <a:ext cx="7405920" cy="4016520"/>
        </p:xfrm>
        <a:graphic>
          <a:graphicData uri="http://schemas.openxmlformats.org/drawingml/2006/table">
            <a:tbl>
              <a:tblPr/>
              <a:tblGrid>
                <a:gridCol w="692280"/>
                <a:gridCol w="1353960"/>
                <a:gridCol w="466920"/>
                <a:gridCol w="466560"/>
                <a:gridCol w="466920"/>
                <a:gridCol w="466560"/>
                <a:gridCol w="466920"/>
                <a:gridCol w="466560"/>
                <a:gridCol w="466920"/>
                <a:gridCol w="466560"/>
                <a:gridCol w="466560"/>
                <a:gridCol w="466920"/>
                <a:gridCol w="69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迷い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勝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OJ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第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4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回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CGF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オープン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980640"/>
            <a:ext cx="913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スイス式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回戦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日本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3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49240" y="1933560"/>
          <a:ext cx="7193160" cy="3286080"/>
        </p:xfrm>
        <a:graphic>
          <a:graphicData uri="http://schemas.openxmlformats.org/drawingml/2006/table">
            <a:tbl>
              <a:tblPr/>
              <a:tblGrid>
                <a:gridCol w="692280"/>
                <a:gridCol w="1353960"/>
                <a:gridCol w="466920"/>
                <a:gridCol w="466560"/>
                <a:gridCol w="466920"/>
                <a:gridCol w="466560"/>
                <a:gridCol w="466920"/>
                <a:gridCol w="466560"/>
                <a:gridCol w="466920"/>
                <a:gridCol w="466560"/>
                <a:gridCol w="692280"/>
                <a:gridCol w="72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uguts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勝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迷い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8921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第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回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GPW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杯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360" y="907560"/>
            <a:ext cx="913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局一組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49240" y="1922400"/>
          <a:ext cx="6284880" cy="3162240"/>
        </p:xfrm>
        <a:graphic>
          <a:graphicData uri="http://schemas.openxmlformats.org/drawingml/2006/table">
            <a:tbl>
              <a:tblPr/>
              <a:tblGrid>
                <a:gridCol w="692280"/>
                <a:gridCol w="1353960"/>
                <a:gridCol w="466920"/>
                <a:gridCol w="536400"/>
                <a:gridCol w="466920"/>
                <a:gridCol w="536400"/>
                <a:gridCol w="536760"/>
                <a:gridCol w="536400"/>
                <a:gridCol w="466920"/>
                <a:gridCol w="69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188640"/>
            <a:ext cx="8994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第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回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GPW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杯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3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360" y="907560"/>
            <a:ext cx="913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3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49240" y="1922400"/>
          <a:ext cx="6284880" cy="3162240"/>
        </p:xfrm>
        <a:graphic>
          <a:graphicData uri="http://schemas.openxmlformats.org/drawingml/2006/table">
            <a:tbl>
              <a:tblPr/>
              <a:tblGrid>
                <a:gridCol w="692280"/>
                <a:gridCol w="1353960"/>
                <a:gridCol w="466920"/>
                <a:gridCol w="536400"/>
                <a:gridCol w="466920"/>
                <a:gridCol w="536400"/>
                <a:gridCol w="536760"/>
                <a:gridCol w="536400"/>
                <a:gridCol w="466920"/>
                <a:gridCol w="69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18</a:t>
            </a:r>
            <a:r>
              <a:rPr b="0" lang="en-US" sz="36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Computer Olympiad Leid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125000"/>
            <a:ext cx="85694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015-6/2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/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日間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Leiden University (Netherlands)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he Snellius Building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で開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ja-JP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International Conference Advances in Computer Games 2015 (ACG2015)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同時開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碁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3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9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路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他にチェス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無制限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同一ハード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), Amazons, Backgammon, Breakthrough, Chinese (Dark) Chess, Clobber, Connect-6, Dots and Boxes, Draughts (10x10), Einstein würfeit nicht!, Hex (11x11, 13x13), LOA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麻雀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ミニ将棋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No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Nonogram, Outer-Open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五目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将棋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鳥将棋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Surak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碁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981000"/>
            <a:ext cx="913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目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局一組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15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49240" y="2060640"/>
          <a:ext cx="6651720" cy="3189240"/>
        </p:xfrm>
        <a:graphic>
          <a:graphicData uri="http://schemas.openxmlformats.org/drawingml/2006/table">
            <a:tbl>
              <a:tblPr/>
              <a:tblGrid>
                <a:gridCol w="793800"/>
                <a:gridCol w="1549440"/>
                <a:gridCol w="628560"/>
                <a:gridCol w="608040"/>
                <a:gridCol w="608040"/>
                <a:gridCol w="608040"/>
                <a:gridCol w="353880"/>
                <a:gridCol w="353880"/>
                <a:gridCol w="35424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碁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3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981000"/>
            <a:ext cx="9137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3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49240" y="2060640"/>
          <a:ext cx="6299280" cy="3206520"/>
        </p:xfrm>
        <a:graphic>
          <a:graphicData uri="http://schemas.openxmlformats.org/drawingml/2006/table">
            <a:tbl>
              <a:tblPr/>
              <a:tblGrid>
                <a:gridCol w="793800"/>
                <a:gridCol w="1760400"/>
                <a:gridCol w="932040"/>
                <a:gridCol w="336600"/>
                <a:gridCol w="336600"/>
                <a:gridCol w="336240"/>
                <a:gridCol w="336600"/>
                <a:gridCol w="336600"/>
                <a:gridCol w="33660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碁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981000"/>
            <a:ext cx="913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ヶ国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, 45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31800" y="2071800"/>
          <a:ext cx="8547120" cy="3662280"/>
        </p:xfrm>
        <a:graphic>
          <a:graphicData uri="http://schemas.openxmlformats.org/drawingml/2006/table">
            <a:tbl>
              <a:tblPr/>
              <a:tblGrid>
                <a:gridCol w="793800"/>
                <a:gridCol w="2556000"/>
                <a:gridCol w="931680"/>
                <a:gridCol w="336600"/>
                <a:gridCol w="336600"/>
                <a:gridCol w="336600"/>
                <a:gridCol w="336600"/>
                <a:gridCol w="336240"/>
                <a:gridCol w="336600"/>
                <a:gridCol w="336600"/>
                <a:gridCol w="1116000"/>
                <a:gridCol w="793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o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mmy (GoTren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fo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南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有段ソフト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KGS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5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1800" y="996840"/>
          <a:ext cx="9093240" cy="5024520"/>
        </p:xfrm>
        <a:graphic>
          <a:graphicData uri="http://schemas.openxmlformats.org/drawingml/2006/table">
            <a:tbl>
              <a:tblPr/>
              <a:tblGrid>
                <a:gridCol w="2050920"/>
                <a:gridCol w="1530360"/>
                <a:gridCol w="755640"/>
                <a:gridCol w="2524320"/>
                <a:gridCol w="2232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アカウン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ラン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ハードウェア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備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+20+12+8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19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10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e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12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e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C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seiI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（日本ルール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Ba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Ba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6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e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x 16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G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MC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MC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6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eon + GP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raB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raMC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7 + GTX6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～数千コア 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G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数十コア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G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fa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azon cluster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コア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eron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超早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主なイベント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4/4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～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5/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8520" y="907920"/>
            <a:ext cx="9137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9"/>
              </a:spcBef>
              <a:buSzPct val="134757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4 5/13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人工知能学会全国大会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松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4 10/4-5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CGF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オープン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電通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4 10/4-11/8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codecentric go challenge 2014, 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ドイ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4 11/7-8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GPW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杯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箱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4 11/23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11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回寝屋川囲碁将棋まつ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3/14-15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UEC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杯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電通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3/17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回電聖戦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電通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5/31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人工知能学会全国大会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函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6/30-7/6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Computer Olympiad 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7/29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EGC 2015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Libere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8/2-4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FUZZ-IEEE 2015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イスタンブール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8/31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IEEE-CIG 2015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台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毎月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KGS bot tourna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主なイベント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5/10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～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8520" y="907920"/>
            <a:ext cx="9137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9"/>
              </a:spcBef>
              <a:buSzPct val="134757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10/3-4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CGF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オープン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電通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10/3-11/14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codecentric go challenge 2015, 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ドイ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10/10,11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Dachs Go Challenge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ハンガリ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11/6-7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GPW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杯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軽井沢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11/10-15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World Computer Weiqi Tournament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北京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11/20-22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TAAI 2015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台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5 11/23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12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回寝屋川囲碁将棋まつ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6 2/6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未発表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名古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6 3/19-20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UEC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杯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電通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6 3/23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回電聖戦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電通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6 6/6-9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回人工知能学会全国大会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北九州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6 6/25-29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FUZZ-IEEE 2016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＋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バンクーバ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2016 7/22-8/7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EGC 2016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200" spc="-1" strike="noStrike">
                <a:solidFill>
                  <a:srgbClr val="ffff66"/>
                </a:solidFill>
                <a:latin typeface="Arial"/>
              </a:rPr>
              <a:t>？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サンクトペテルブル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9"/>
              </a:spcBef>
              <a:buSzPct val="134757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毎月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KGS bot tourna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8520" y="115920"/>
            <a:ext cx="8921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主な対人戦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4/4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～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5/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15800" y="692280"/>
          <a:ext cx="9153720" cy="5549760"/>
        </p:xfrm>
        <a:graphic>
          <a:graphicData uri="http://schemas.openxmlformats.org/drawingml/2006/table">
            <a:tbl>
              <a:tblPr/>
              <a:tblGrid>
                <a:gridCol w="1008360"/>
                <a:gridCol w="2952720"/>
                <a:gridCol w="1512720"/>
                <a:gridCol w="370080"/>
                <a:gridCol w="709560"/>
                <a:gridCol w="1296720"/>
                <a:gridCol w="1303560"/>
              </a:tblGrid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手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結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イベン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/13,’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坂倉健太 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d?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学会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松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/26,’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謝野馨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ニコニコ囲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4,’14~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z-Josef Dickhut 6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centr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7,’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王銘琬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, Coldmilk, Fuego,MC_ark, Nomitan, R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go, 1-0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, 1-0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, 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PW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箱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15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榊原昌人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d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gem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EC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17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趙治勲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三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回電聖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Ba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四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/31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下坂美織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三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学会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函館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/29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李夏辰 （</a:t>
                      </a: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, Hajin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五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C-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/2-4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陳文琦 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n, Wen-Chih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ZZ-IEEE 2015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イスタンブール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平強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u, Ping-Chiang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四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五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/31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周俊勳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u, Chun-Hsun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, Aya, CI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 5,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, 0-1, 0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-CIG 2015,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台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張凱馨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, Kai-Hsin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, 1-0, 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俞俐均（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u, Li-Chun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0, 0-1, 1-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8520" y="115920"/>
            <a:ext cx="8921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主な対人戦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5/10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～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15800" y="828720"/>
          <a:ext cx="8939160" cy="2313000"/>
        </p:xfrm>
        <a:graphic>
          <a:graphicData uri="http://schemas.openxmlformats.org/drawingml/2006/table">
            <a:tbl>
              <a:tblPr/>
              <a:tblGrid>
                <a:gridCol w="1008360"/>
                <a:gridCol w="3011400"/>
                <a:gridCol w="1461960"/>
                <a:gridCol w="370080"/>
                <a:gridCol w="709560"/>
                <a:gridCol w="753840"/>
                <a:gridCol w="1623960"/>
              </a:tblGrid>
              <a:tr h="3157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手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場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イベン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3,’15~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z-Josef Dickhut 6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centr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0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csai Rita 5d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rő Csaba 6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互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chs G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le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15,’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春繭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杯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第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期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中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國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名人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戰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優勝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陳耀燁 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n, Yaoye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p or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連笑 （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an, Xiao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優勝プログラ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？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北京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ld Compu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iq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rna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6,’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伊田篤史 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？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名古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未発表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29240" y="3357720"/>
            <a:ext cx="3809880" cy="2697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909680" y="350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春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066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KGS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年間チャンピオン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4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76160" y="831960"/>
          <a:ext cx="8223480" cy="5476680"/>
        </p:xfrm>
        <a:graphic>
          <a:graphicData uri="http://schemas.openxmlformats.org/drawingml/2006/table">
            <a:tbl>
              <a:tblPr/>
              <a:tblGrid>
                <a:gridCol w="2303640"/>
                <a:gridCol w="438120"/>
                <a:gridCol w="438120"/>
                <a:gridCol w="438120"/>
                <a:gridCol w="438120"/>
                <a:gridCol w="438120"/>
                <a:gridCol w="438120"/>
                <a:gridCol w="438120"/>
                <a:gridCol w="438480"/>
                <a:gridCol w="438120"/>
                <a:gridCol w="466560"/>
                <a:gridCol w="466920"/>
                <a:gridCol w="466560"/>
                <a:gridCol w="576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仏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go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加・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raBot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Baram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韓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foam 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南ア・独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hi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チェコ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nvreter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蘭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 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 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milk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台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ego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米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ssa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？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360" y="115560"/>
            <a:ext cx="9066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KGS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年間チャンピオン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2015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76160" y="836640"/>
          <a:ext cx="8487000" cy="4016520"/>
        </p:xfrm>
        <a:graphic>
          <a:graphicData uri="http://schemas.openxmlformats.org/drawingml/2006/table">
            <a:tbl>
              <a:tblPr/>
              <a:tblGrid>
                <a:gridCol w="2508480"/>
                <a:gridCol w="434880"/>
                <a:gridCol w="434880"/>
                <a:gridCol w="432000"/>
                <a:gridCol w="434880"/>
                <a:gridCol w="431640"/>
                <a:gridCol w="435240"/>
                <a:gridCol w="431640"/>
                <a:gridCol w="434880"/>
                <a:gridCol w="433440"/>
                <a:gridCol w="461880"/>
                <a:gridCol w="462240"/>
                <a:gridCol w="438120"/>
                <a:gridCol w="712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n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ya 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Baram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韓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zy Stone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仏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foam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南ア・独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UI Gothic"/>
                        </a:rPr>
                        <a:t>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独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ego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米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raBot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Faces of Go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米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r>
                        <a:rPr b="0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日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UI Gothic"/>
                        </a:rPr>
                        <a:t>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UI Gothic"/>
                        </a:rPr>
                        <a:t>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第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3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回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CGF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オープン 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360" y="980640"/>
            <a:ext cx="913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総当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国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49240" y="1933560"/>
          <a:ext cx="7405920" cy="4016520"/>
        </p:xfrm>
        <a:graphic>
          <a:graphicData uri="http://schemas.openxmlformats.org/drawingml/2006/table">
            <a:tbl>
              <a:tblPr/>
              <a:tblGrid>
                <a:gridCol w="692280"/>
                <a:gridCol w="1353960"/>
                <a:gridCol w="466920"/>
                <a:gridCol w="466560"/>
                <a:gridCol w="466920"/>
                <a:gridCol w="466560"/>
                <a:gridCol w="466920"/>
                <a:gridCol w="466560"/>
                <a:gridCol w="466920"/>
                <a:gridCol w="466560"/>
                <a:gridCol w="466560"/>
                <a:gridCol w="466920"/>
                <a:gridCol w="69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fQu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迷い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yu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勝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188640"/>
            <a:ext cx="9137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第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3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回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CGF 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オープン（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路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360" y="980640"/>
            <a:ext cx="913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参加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スイス式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回戦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日本ルール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コミ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目半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, 3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分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49240" y="1933560"/>
          <a:ext cx="8126640" cy="4016520"/>
        </p:xfrm>
        <a:graphic>
          <a:graphicData uri="http://schemas.openxmlformats.org/drawingml/2006/table">
            <a:tbl>
              <a:tblPr/>
              <a:tblGrid>
                <a:gridCol w="692280"/>
                <a:gridCol w="1353960"/>
                <a:gridCol w="466920"/>
                <a:gridCol w="466560"/>
                <a:gridCol w="466920"/>
                <a:gridCol w="466560"/>
                <a:gridCol w="466920"/>
                <a:gridCol w="466560"/>
                <a:gridCol w="466920"/>
                <a:gridCol w="466560"/>
                <a:gridCol w="466560"/>
                <a:gridCol w="466920"/>
                <a:gridCol w="692280"/>
                <a:gridCol w="72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プログラ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得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_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U 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勝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yu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迷い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15 Hideki Ka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5-10-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24:11Z</dcterms:created>
  <dc:creator>Hideki Kato</dc:creator>
  <dc:description/>
  <dc:language>en-US</dc:language>
  <cp:lastModifiedBy>Hideki</cp:lastModifiedBy>
  <dcterms:modified xsi:type="dcterms:W3CDTF">2015-10-09T06:10:51Z</dcterms:modified>
  <cp:revision>447</cp:revision>
  <dc:subject/>
  <dc:title>2007-04-14 CGF モンテカルロ碁</dc:title>
</cp:coreProperties>
</file>