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686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FFF-9474-4FC6-934B-416C205D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D59-B28D-4000-B6ED-04DA8181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BE8-7FB2-4D70-889B-7DE523E7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27A-DDD5-496E-9211-E0487387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1B78-4265-4F82-814E-4B414F39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731D-A822-4529-AA57-0797BD9E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AD79-696A-4576-A3E4-1A8A6A6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A3A1-8E77-45DC-BAB9-69685CA3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3AD-4508-4C9A-920D-95ED826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5BF3-5F74-4919-A11D-CBDC6752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1831-0C02-44C1-9C06-79971E1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1C4-FAA9-4BE2-BA9C-7F646A8C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C505-9A94-4F50-A4FC-C3DA5B5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301-CEC6-4BFE-918F-D703F87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5C2D-8292-4BCD-8E6C-C6F1ACA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21A-2838-4B47-B677-BE8A3F29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5F9C-9D58-4AC9-AAD7-486E36E0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10D-D529-4E06-8106-105854C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1D7-F780-4802-8567-3A9353B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25B-15D7-4E42-96A1-BED479B1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0CE-8CDE-405E-8DF3-C2235E9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83D-072F-4AEE-A168-DA3B618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65A-AF6D-4D2A-9F42-F5D1B12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AEA-0EA2-4EA5-9F0E-85A9465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865240" y="6248520"/>
            <a:ext cx="43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32168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9733-D602-4699-913B-29DA6917240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39DD-832D-44BF-8449-8381D7DCA77B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360" y="18900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コンピュータ囲碁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2011</a:t>
            </a:r>
            <a:br>
              <a:rPr sz="4400"/>
            </a:b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2011/10/8 CGF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加藤英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557000"/>
            <a:ext cx="913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現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有段ソフト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ンピュータ囲碁大会年間チャンピオ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最近の対人戦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技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OP (Confident Local Optimization for Noisy Black-Box Parameter Tuning) by Rémi Cou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LGR (Last-Good-Reply policy) by Peter Dr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ルート並列は難し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3880" y="44280"/>
            <a:ext cx="6858000" cy="637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GR (Last-Good-Reply polic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9720" y="1196640"/>
            <a:ext cx="8058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Last-Good-Reply Policy for Monte-Carlo Go”, Peter Drake, ICGA Journal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シミュレーションで勝った時の手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reply move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を覚えておき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後のシミュレーションで利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daptive simulation, or dynamic policy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一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の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6k playout/move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以上で効果あ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rego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ランクが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1k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から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8k (KGS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に向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手番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手 → 応手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LGR1)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手番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手 → 応手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LGR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3600" y="5172120"/>
            <a:ext cx="576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3600" y="3716280"/>
            <a:ext cx="576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ルート並列は難し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1560" y="2347920"/>
            <a:ext cx="7920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71560" y="2673360"/>
            <a:ext cx="79200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1800" y="2997360"/>
            <a:ext cx="3240" cy="273672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9960" y="3268800"/>
            <a:ext cx="151128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l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9960" y="4724280"/>
            <a:ext cx="151128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l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160" y="13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コマン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89960" y="2421000"/>
            <a:ext cx="151128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84880" y="4060800"/>
            <a:ext cx="4105080" cy="176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02320" y="4724280"/>
            <a:ext cx="151128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05600" y="4724280"/>
            <a:ext cx="151128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3040" y="4148280"/>
            <a:ext cx="1440" cy="50472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625960" y="4148280"/>
            <a:ext cx="1800" cy="50472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1360440"/>
            <a:ext cx="233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探索木の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408880" y="3427560"/>
            <a:ext cx="0" cy="5760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68880" y="2205000"/>
            <a:ext cx="208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各ノードは自律的に一定間隔で前回との差分をブロードキャスト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14680" y="2044800"/>
            <a:ext cx="151128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有段ソフト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04880" y="1052640"/>
          <a:ext cx="8483400" cy="4743360"/>
        </p:xfrm>
        <a:graphic>
          <a:graphicData uri="http://schemas.openxmlformats.org/drawingml/2006/table">
            <a:tbl>
              <a:tblPr/>
              <a:tblGrid>
                <a:gridCol w="2255760"/>
                <a:gridCol w="1693800"/>
                <a:gridCol w="1003320"/>
                <a:gridCol w="2027160"/>
                <a:gridCol w="1503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ラン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ハードウェア規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（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C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x 2.26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百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２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百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B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x2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千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銀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sei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x15s (J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MC4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x 3.3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m+10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x 2.4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faces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数百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コンピュータ囲碁大会年間チャンピオ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15800" y="981000"/>
          <a:ext cx="9156600" cy="5138640"/>
        </p:xfrm>
        <a:graphic>
          <a:graphicData uri="http://schemas.openxmlformats.org/drawingml/2006/table">
            <a:tbl>
              <a:tblPr/>
              <a:tblGrid>
                <a:gridCol w="2255760"/>
                <a:gridCol w="325440"/>
                <a:gridCol w="325440"/>
                <a:gridCol w="536760"/>
                <a:gridCol w="325440"/>
                <a:gridCol w="325440"/>
                <a:gridCol w="325440"/>
                <a:gridCol w="452520"/>
                <a:gridCol w="325440"/>
                <a:gridCol w="325080"/>
                <a:gridCol w="325440"/>
                <a:gridCol w="452520"/>
                <a:gridCol w="325440"/>
                <a:gridCol w="466920"/>
                <a:gridCol w="466560"/>
                <a:gridCol w="452520"/>
                <a:gridCol w="466560"/>
                <a:gridCol w="6778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 (Czeb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neGr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 (Pueg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ky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近の対人戦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8880" y="936720"/>
          <a:ext cx="8928000" cy="4940280"/>
        </p:xfrm>
        <a:graphic>
          <a:graphicData uri="http://schemas.openxmlformats.org/drawingml/2006/table">
            <a:tbl>
              <a:tblPr/>
              <a:tblGrid>
                <a:gridCol w="1224000"/>
                <a:gridCol w="1800360"/>
                <a:gridCol w="1584360"/>
                <a:gridCol w="369720"/>
                <a:gridCol w="754200"/>
                <a:gridCol w="550800"/>
                <a:gridCol w="1493640"/>
                <a:gridCol w="1150920"/>
              </a:tblGrid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置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結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-10-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藤澤里奈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Olympiad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金沢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-11-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青葉かおり四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EC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電通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鄭銘コウ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-12-28, 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hn Trom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アマ二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七番勝負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ロンド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初段ベッ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2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湾のプロ棋士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南大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3-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湾のプロ棋士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七目半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八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rowSpan="6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5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 vs. Computer Go Competition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続く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盲目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二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逆コミ三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近の対人戦績（続き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88880" y="907920"/>
          <a:ext cx="9041040" cy="5359680"/>
        </p:xfrm>
        <a:graphic>
          <a:graphicData uri="http://schemas.openxmlformats.org/drawingml/2006/table">
            <a:tbl>
              <a:tblPr/>
              <a:tblGrid>
                <a:gridCol w="1312920"/>
                <a:gridCol w="1711440"/>
                <a:gridCol w="1638360"/>
                <a:gridCol w="398160"/>
                <a:gridCol w="601920"/>
                <a:gridCol w="642960"/>
                <a:gridCol w="1541160"/>
                <a:gridCol w="1194120"/>
              </a:tblGrid>
              <a:tr h="31608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置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結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 rowSpan="5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5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 &amp; 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続き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連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七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七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6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金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榮三八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GoFrie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wmat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6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6-27, 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九段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五段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黑嘉嘉五段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張凱馨四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, MoGoTW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, 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ZZ-IEEE 2011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連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二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三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七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湾のプロ棋士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T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七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九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8-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林耕三六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an Go Congress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ボルド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野口基樹アマ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七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ミ七目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03184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62080"/>
            <a:ext cx="9137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P (Confident Local Optimization for Noisy Black-Box Parameter Tun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0520" y="1916280"/>
            <a:ext cx="90662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のパラメタを同時に最適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二次曲面で近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ノイズに強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良くできた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GUI (Qt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ポータブル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Linux, Window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24520" y="115920"/>
            <a:ext cx="4410000" cy="3543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5800" y="115920"/>
            <a:ext cx="4410360" cy="3543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15800" y="3068640"/>
            <a:ext cx="4410360" cy="3543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024520" y="3068640"/>
            <a:ext cx="4410000" cy="35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4410360" cy="3543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24520" y="189000"/>
            <a:ext cx="4410000" cy="35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1 Hideki Kat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1/10/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24:11Z</dcterms:created>
  <dc:creator>Hideki Kato</dc:creator>
  <dc:description/>
  <dc:language>en-US</dc:language>
  <cp:lastModifiedBy>Hideki</cp:lastModifiedBy>
  <dcterms:modified xsi:type="dcterms:W3CDTF">2011-10-07T04:44:30Z</dcterms:modified>
  <cp:revision>265</cp:revision>
  <dc:subject/>
  <dc:title>2007-04-14 CGF モンテカルロ碁</dc:title>
</cp:coreProperties>
</file>