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7264400" cy="10375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5C3-D109-4924-AAEB-3FE9A084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379-2664-407A-B3F7-E33B4B30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FA1-CFF8-4A34-BA42-90FA1512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488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404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36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8488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404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0D4-B5BE-4E16-83B8-5075DAE6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3A5A-EAE0-4755-AFE7-262741AF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2089-1D49-4C8B-AE4F-0F2D569C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6BE8-4040-4EB2-BFA6-12AC21F7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628A-7160-4234-BA6A-8F9DE4FE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677C-73E7-4E3A-A3AC-1A6DD54D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5360" y="188640"/>
            <a:ext cx="913752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C949-8662-46FF-9BF1-A11B1984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5E54-AACD-446B-AA4A-508F06E2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A7A-43ED-429C-8535-13B1527E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D9B7-CDCB-4892-A187-1B02EC0D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86E1-845D-4B79-A6E9-7EAB4B47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0A00-D590-4C30-ACB4-BA16C096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F236-E9EF-41D8-A292-112B4091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8488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7404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536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8488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67404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4C9B-D025-4491-953F-517BD9BD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676-268F-46D4-A5F1-11959D65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E47-2459-4B28-9668-4DB9583E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251-1A97-4677-A55C-493ED857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360" y="188640"/>
            <a:ext cx="913752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7BC-AE0C-4B5D-982E-4E4F752E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679-A51E-4381-9BE0-D56631FD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2BF-8FB4-46FE-9DB6-377C5693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F96-D442-4D62-A22F-015EAE14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5960" y="0"/>
              <a:ext cx="964620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419040" y="4108320"/>
              <a:ext cx="48312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19920" y="0"/>
              <a:ext cx="53640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782560" y="0"/>
              <a:ext cx="985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8920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8920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8920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230200" y="0"/>
              <a:ext cx="766548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792840" y="0"/>
              <a:ext cx="310284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072640" y="0"/>
              <a:ext cx="182304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566200" y="0"/>
              <a:ext cx="132948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865240" y="6248520"/>
            <a:ext cx="439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32168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B8EC-1115-435B-B40A-5E96680EB718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5960" y="0"/>
              <a:ext cx="964620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419040" y="4108320"/>
              <a:ext cx="48312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19920" y="0"/>
              <a:ext cx="53640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82560" y="0"/>
              <a:ext cx="985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8920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8920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8920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0200" y="0"/>
              <a:ext cx="766548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92840" y="0"/>
              <a:ext cx="310284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2640" y="0"/>
              <a:ext cx="182304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66200" y="0"/>
              <a:ext cx="132948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4ED8-AC75-430B-85E0-12DAEE12FD72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live.nicovideo.jp/watch/lv82404705" TargetMode="External"/><Relationship Id="rId4" Type="http://schemas.openxmlformats.org/officeDocument/2006/relationships/hyperlink" Target="http://live.nicovideo.jp/watch/lv82404705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115560"/>
            <a:ext cx="9137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コンピュータ囲碁 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2012 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春</a:t>
            </a:r>
            <a:br>
              <a:rPr sz="4800"/>
            </a:b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加藤英樹（チーム </a:t>
            </a: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DeepZen</a:t>
            </a: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75800" y="2205000"/>
            <a:ext cx="8425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Aft>
                <a:spcPts val="326"/>
              </a:spcAft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第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5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回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GPW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杯 コンピュータ囲碁大会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326"/>
              </a:spcAft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TAAI 2012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コンピュータ・ゲーム大会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326"/>
              </a:spcAft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ja-JP" sz="2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 Computer Olympiad Tilbu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326"/>
              </a:spcAft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KGS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コンピュータ囲碁大会年間チャンピオ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326"/>
              </a:spcAft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石田芳夫九段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対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Z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326"/>
              </a:spcAft>
              <a:buSzPct val="1140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有段ソフト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春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326"/>
              </a:spcAft>
              <a:buSzPct val="1140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最近の主な対人戦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2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-04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ffffff"/>
                </a:solidFill>
                <a:latin typeface="Arial"/>
              </a:rPr>
              <a:t>石田芳夫九段 </a:t>
            </a: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対</a:t>
            </a:r>
            <a:r>
              <a:rPr b="0" lang="ja-JP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3900" spc="-1" strike="noStrike">
                <a:solidFill>
                  <a:srgbClr val="ffffff"/>
                </a:solidFill>
                <a:latin typeface="Arial"/>
              </a:rPr>
              <a:t>Ze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360" y="1052280"/>
            <a:ext cx="91375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2/25,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原宿のドワンゴ本社内カフェ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0" lang="ja-JP" sz="32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みんなでニコニコ囲碁サークル</a:t>
            </a:r>
            <a:r>
              <a:rPr b="0" lang="ja-JP" sz="32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#5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」の企画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司会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百花繚乱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戸島花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藤澤一就八段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路，日本ルール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, Zen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の先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, 25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分切れ負け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石田九段の中押し勝ち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途中まではかなり良い勝負だった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らしい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「逆コミがあったら危なかった」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藤澤八段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右辺のキリを打たなかったのが敗因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2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-04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115560"/>
            <a:ext cx="9066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KGS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コンピュータ囲碁大会年間チャンピオ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15800" y="765000"/>
          <a:ext cx="9045720" cy="5654880"/>
        </p:xfrm>
        <a:graphic>
          <a:graphicData uri="http://schemas.openxmlformats.org/drawingml/2006/table">
            <a:tbl>
              <a:tblPr/>
              <a:tblGrid>
                <a:gridCol w="2256120"/>
                <a:gridCol w="325440"/>
                <a:gridCol w="325440"/>
                <a:gridCol w="480960"/>
                <a:gridCol w="325440"/>
                <a:gridCol w="325440"/>
                <a:gridCol w="325440"/>
                <a:gridCol w="452160"/>
                <a:gridCol w="325440"/>
                <a:gridCol w="325440"/>
                <a:gridCol w="325440"/>
                <a:gridCol w="452520"/>
                <a:gridCol w="325440"/>
                <a:gridCol w="466920"/>
                <a:gridCol w="466560"/>
                <a:gridCol w="452520"/>
                <a:gridCol w="466560"/>
                <a:gridCol w="622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Faces of 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envre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mor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Go (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公開版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 (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公開版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neGr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GoFrie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ky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kfo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2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-04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有段ソフト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2012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31800" y="1052640"/>
          <a:ext cx="8643960" cy="5138640"/>
        </p:xfrm>
        <a:graphic>
          <a:graphicData uri="http://schemas.openxmlformats.org/drawingml/2006/table">
            <a:tbl>
              <a:tblPr/>
              <a:tblGrid>
                <a:gridCol w="2327400"/>
                <a:gridCol w="1693800"/>
                <a:gridCol w="1003320"/>
                <a:gridCol w="2043000"/>
                <a:gridCol w="1576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GS accou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ラン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ハードウェ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備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19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+ 6 + 6 +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x 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x 2.26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x 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銀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nseiI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6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x 3.33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x 15s (J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 St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St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M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x 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２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数十～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400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x 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数十～数百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ica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x 2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MC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x 3.3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m+10x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数十～数千コ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mor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morra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 4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Faces of 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fa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x 2.3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x 15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envre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x 2.2 GHz (?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2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-04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8921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近の主な対人戦績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予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88880" y="966960"/>
          <a:ext cx="8928000" cy="4983120"/>
        </p:xfrm>
        <a:graphic>
          <a:graphicData uri="http://schemas.openxmlformats.org/drawingml/2006/table">
            <a:tbl>
              <a:tblPr/>
              <a:tblGrid>
                <a:gridCol w="1224000"/>
                <a:gridCol w="1800360"/>
                <a:gridCol w="1584360"/>
                <a:gridCol w="369720"/>
                <a:gridCol w="754200"/>
                <a:gridCol w="550800"/>
                <a:gridCol w="2644560"/>
              </a:tblGrid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付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置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結果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イベン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-08-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an Go Cong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-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俊勲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四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ZZ-IE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-0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武宮正樹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四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回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&amp;C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シンポジウム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電通大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調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五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大橋拓文 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-03-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細谷卓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d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回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IST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杯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JAIST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品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野口基樹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d (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仏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-02-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石田芳夫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ニコニコ動画の囲碁番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-01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hn Tromp 2d (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欧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五番勝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初段ベットの別版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-12-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鄭銘瑝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六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回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EC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杯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電通大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調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小林千寿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-08-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林耕三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五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an Go Congress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ボルドー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野口基樹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d (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仏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2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-04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回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GPW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杯 コンピュータ囲碁大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125000"/>
            <a:ext cx="91375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1/4, 5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の夜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箱根の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GPW-11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会場で開催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日本と台湾から計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が参加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総当り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は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切れ負け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先後交代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局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13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は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同時進行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4800" y="3068640"/>
          <a:ext cx="8926560" cy="3162240"/>
        </p:xfrm>
        <a:graphic>
          <a:graphicData uri="http://schemas.openxmlformats.org/drawingml/2006/table">
            <a:tbl>
              <a:tblPr/>
              <a:tblGrid>
                <a:gridCol w="1319400"/>
                <a:gridCol w="2346120"/>
                <a:gridCol w="1874880"/>
                <a:gridCol w="692280"/>
                <a:gridCol w="269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プログラ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作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所属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ハードウェ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山下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pad X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下川和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電通大村松研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5 M5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mi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周政緯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,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顏士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D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7 Q720 1.6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em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増子直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東大田中研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Book Air 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荒木伸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株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) 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ジーサー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Duo 1.83 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a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野中翔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,</a:t>
                      </a: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中村貞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九工大中村研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's N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尾島陽児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pad X20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2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-04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11556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対戦表（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路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&amp; 13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路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15800" y="836640"/>
          <a:ext cx="9299880" cy="2793960"/>
        </p:xfrm>
        <a:graphic>
          <a:graphicData uri="http://schemas.openxmlformats.org/drawingml/2006/table">
            <a:tbl>
              <a:tblPr/>
              <a:tblGrid>
                <a:gridCol w="1355760"/>
                <a:gridCol w="662040"/>
                <a:gridCol w="1254240"/>
                <a:gridCol w="669960"/>
                <a:gridCol w="1101600"/>
                <a:gridCol w="1130400"/>
                <a:gridCol w="793800"/>
                <a:gridCol w="1538280"/>
                <a:gridCol w="793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Coldmil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A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C_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Nona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得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プレーオフ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mil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a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15800" y="3719520"/>
          <a:ext cx="7599600" cy="2733840"/>
        </p:xfrm>
        <a:graphic>
          <a:graphicData uri="http://schemas.openxmlformats.org/drawingml/2006/table">
            <a:tbl>
              <a:tblPr/>
              <a:tblGrid>
                <a:gridCol w="1355760"/>
                <a:gridCol w="838440"/>
                <a:gridCol w="661680"/>
                <a:gridCol w="669960"/>
                <a:gridCol w="1254240"/>
                <a:gridCol w="1231920"/>
                <a:gridCol w="793800"/>
                <a:gridCol w="793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Bla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A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Coldmil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Goem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得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mil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-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em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8795880" y="56358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857440" y="4292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048520" y="5877000"/>
            <a:ext cx="7207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29600" y="3715920"/>
            <a:ext cx="0" cy="576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2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-04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TAAI 2012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コンピュータ・ゲーム大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300"/>
              </a:spcBef>
              <a:spcAft>
                <a:spcPts val="451"/>
              </a:spcAft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1/11, 1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の二日間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台湾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壢市の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國立中央大學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で開催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00"/>
              </a:spcBef>
              <a:spcAft>
                <a:spcPts val="451"/>
              </a:spcAft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(9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13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19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の他に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Chinese Chess, Chinese Dark Chess, Connect6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麻雀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五五将棋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Nonograms, Nonograms Solver, No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Killal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00"/>
              </a:spcBef>
              <a:spcAft>
                <a:spcPts val="451"/>
              </a:spcAft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対局は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KGS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00"/>
              </a:spcBef>
              <a:spcAft>
                <a:spcPts val="451"/>
              </a:spcAft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は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スイス式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. MyGoFriend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が棄権で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参加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優勝は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Zen, Fueg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mogotw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が同点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位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00"/>
              </a:spcBef>
              <a:spcAft>
                <a:spcPts val="451"/>
              </a:spcAft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は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. 4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参加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優勝は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Zen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以下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Fuego, mogot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00"/>
              </a:spcBef>
              <a:spcAft>
                <a:spcPts val="451"/>
              </a:spcAft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は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. 4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参加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優勝は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Zen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以下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Fuego, mogot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2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-04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対戦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36520" y="1125360"/>
          <a:ext cx="7380360" cy="4100760"/>
        </p:xfrm>
        <a:graphic>
          <a:graphicData uri="http://schemas.openxmlformats.org/drawingml/2006/table">
            <a:tbl>
              <a:tblPr/>
              <a:tblGrid>
                <a:gridCol w="311400"/>
                <a:gridCol w="1716120"/>
                <a:gridCol w="336240"/>
                <a:gridCol w="336600"/>
                <a:gridCol w="336600"/>
                <a:gridCol w="336600"/>
                <a:gridCol w="336600"/>
                <a:gridCol w="336600"/>
                <a:gridCol w="336600"/>
                <a:gridCol w="336240"/>
                <a:gridCol w="1073160"/>
                <a:gridCol w="793800"/>
                <a:gridCol w="793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Playof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得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Fue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ogot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Coldmil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Happy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Win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Lez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yGoFri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棄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2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-04-0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mputer Olympiad Tilbur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11/18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11/26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日間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オランダ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ティルブルフのティルブルフ大学内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Red Brick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で開催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ja-JP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Advances in Computer Games Conference (ACG13)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同時開催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(9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13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19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他にチェス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普通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Software, Blitz), Chinese (Dark) Chess, Einstein würfeit nicht!, Amazons, Backgammon, Clobber, Connect6, Dots and Boxes, Draughts, Hex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将棋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Havannah, No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碁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Phantom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碁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Suraka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2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-04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(9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1/20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ヶ国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(Steenvreter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棄権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国ルール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(KGS)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局一組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1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11360" y="2205000"/>
          <a:ext cx="8423280" cy="3662280"/>
        </p:xfrm>
        <a:graphic>
          <a:graphicData uri="http://schemas.openxmlformats.org/drawingml/2006/table">
            <a:tbl>
              <a:tblPr/>
              <a:tblGrid>
                <a:gridCol w="793440"/>
                <a:gridCol w="1862280"/>
                <a:gridCol w="932040"/>
                <a:gridCol w="353880"/>
                <a:gridCol w="353880"/>
                <a:gridCol w="354240"/>
                <a:gridCol w="353880"/>
                <a:gridCol w="353880"/>
                <a:gridCol w="354240"/>
                <a:gridCol w="353880"/>
                <a:gridCol w="793800"/>
                <a:gridCol w="1563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レーオフ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チェ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mor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GoFri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2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-04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(13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1/22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ヶ国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国ルール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(KGS)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2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30240" y="2205000"/>
          <a:ext cx="6299280" cy="3206880"/>
        </p:xfrm>
        <a:graphic>
          <a:graphicData uri="http://schemas.openxmlformats.org/drawingml/2006/table">
            <a:tbl>
              <a:tblPr/>
              <a:tblGrid>
                <a:gridCol w="793800"/>
                <a:gridCol w="1760400"/>
                <a:gridCol w="932040"/>
                <a:gridCol w="336600"/>
                <a:gridCol w="336600"/>
                <a:gridCol w="336240"/>
                <a:gridCol w="336600"/>
                <a:gridCol w="336600"/>
                <a:gridCol w="336600"/>
                <a:gridCol w="793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envr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チェ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mor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2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-04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(19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1/23 &amp; 24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ヶ国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8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国ルール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(KGS)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45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11360" y="2190600"/>
          <a:ext cx="7073640" cy="4118040"/>
        </p:xfrm>
        <a:graphic>
          <a:graphicData uri="http://schemas.openxmlformats.org/drawingml/2006/table">
            <a:tbl>
              <a:tblPr/>
              <a:tblGrid>
                <a:gridCol w="793440"/>
                <a:gridCol w="1862280"/>
                <a:gridCol w="932040"/>
                <a:gridCol w="336240"/>
                <a:gridCol w="336600"/>
                <a:gridCol w="336600"/>
                <a:gridCol w="336600"/>
                <a:gridCol w="336600"/>
                <a:gridCol w="336600"/>
                <a:gridCol w="336600"/>
                <a:gridCol w="336240"/>
                <a:gridCol w="793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envr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チェ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mor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GoFri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2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-04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5:24:11Z</dcterms:created>
  <dc:creator>Hideki Kato</dc:creator>
  <dc:description/>
  <dc:language>en-US</dc:language>
  <cp:lastModifiedBy>Hideki</cp:lastModifiedBy>
  <dcterms:modified xsi:type="dcterms:W3CDTF">2012-04-07T07:28:09Z</dcterms:modified>
  <cp:revision>343</cp:revision>
  <dc:subject/>
  <dc:title>2007-04-14 CGF モンテカルロ碁</dc:title>
</cp:coreProperties>
</file>