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7264400" cy="10375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746-7CE6-4D5B-B0AF-161A951B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5BB-2A81-4BC8-9CB6-6F260682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E81-447B-4358-B9A2-D5C9851D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488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404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6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8488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404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D0E-4C42-438A-9C74-2CCA403A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0BDC-7AFD-48CC-BD20-67AE3251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2593-44A6-4521-992A-7C22596D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813E-0C55-42EB-B6A9-7910F89F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92BD-6BF7-49EF-B311-3CE3731E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FEF0-3A25-4158-9685-56A458B3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360" y="188640"/>
            <a:ext cx="913752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EFED-8250-4811-96AA-5BB2EBB5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696A-F011-455C-8BB8-CE8C0399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98C-88DB-4A0A-88F5-8C0F9FEF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B3DE-3C8F-4740-896B-AD877C73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B0EE-4853-4121-AE3A-E70F1B0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17E4-5970-40E0-8571-5C42FF73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8C57-974D-4F25-BA63-76F51324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8488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7404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36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8488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67404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0E63-7AA8-4C1D-8247-927D2E19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DAA-BC0C-4926-9F26-F3EACCFA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7AD-B243-4254-9969-E46EEAC8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890-D5C6-4A52-A806-CD58F0AB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360" y="188640"/>
            <a:ext cx="913752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95D-A22E-4734-81F4-70DA13B0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68D-C833-46FC-BBEA-B3F851BD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B3A-9A69-4E3C-9468-539B755A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356-6E16-4CF0-B012-EAFBDC8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865240" y="6248520"/>
            <a:ext cx="439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32168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EAFF-6FA9-4656-A69F-1CBC2C028D34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B6CE-6F9A-4136-9235-A3600E3C5AD8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137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コンピュータ囲碁 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2014 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春</a:t>
            </a:r>
            <a:br>
              <a:rPr sz="4800"/>
            </a:b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加藤英樹（チーム 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DeepZen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5800" y="2492280"/>
            <a:ext cx="8425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Aft>
                <a:spcPts val="437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ここ一年の主なイベント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437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KGS</a:t>
            </a:r>
            <a:r>
              <a:rPr b="0" lang="ja-JP" sz="35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3500" spc="-1" strike="noStrike">
                <a:solidFill>
                  <a:srgbClr val="ffffff"/>
                </a:solidFill>
                <a:latin typeface="ＭＳ Ｐゴシック"/>
              </a:rPr>
              <a:t>コンピュータ囲碁大会年間チャンピオン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437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ffffff"/>
                </a:solidFill>
                <a:latin typeface="ＭＳ Ｐゴシック"/>
              </a:rPr>
              <a:t>最近の主な対人戦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066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KGS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コンピュータ囲碁大会年間チャンピオ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76160" y="831960"/>
          <a:ext cx="8223120" cy="5476680"/>
        </p:xfrm>
        <a:graphic>
          <a:graphicData uri="http://schemas.openxmlformats.org/drawingml/2006/table">
            <a:tbl>
              <a:tblPr/>
              <a:tblGrid>
                <a:gridCol w="2303280"/>
                <a:gridCol w="438120"/>
                <a:gridCol w="438120"/>
                <a:gridCol w="438480"/>
                <a:gridCol w="438120"/>
                <a:gridCol w="438120"/>
                <a:gridCol w="438120"/>
                <a:gridCol w="438120"/>
                <a:gridCol w="438120"/>
                <a:gridCol w="438120"/>
                <a:gridCol w="466560"/>
                <a:gridCol w="466920"/>
                <a:gridCol w="466560"/>
                <a:gridCol w="576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Faces of 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Bar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kfo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nvre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mil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e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U 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有段ソフト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2012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1800" y="1052640"/>
          <a:ext cx="8643960" cy="5138640"/>
        </p:xfrm>
        <a:graphic>
          <a:graphicData uri="http://schemas.openxmlformats.org/drawingml/2006/table">
            <a:tbl>
              <a:tblPr/>
              <a:tblGrid>
                <a:gridCol w="2327400"/>
                <a:gridCol w="1693800"/>
                <a:gridCol w="1003320"/>
                <a:gridCol w="2043000"/>
                <a:gridCol w="1576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GS accou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ラン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ハードウェ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備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19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+ 6 + 6 +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x 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19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x 2.26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x 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銀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nseiI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6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x 3.33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x 15s (J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St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M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x 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２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十～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00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x 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十～数百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ica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x 2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MC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x 3.3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m+10x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十～数千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4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Faces of 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fa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x 2.3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x 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nvre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x 2.2 GHz (?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8921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近の主な対人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33240" y="966960"/>
          <a:ext cx="8568000" cy="5084640"/>
        </p:xfrm>
        <a:graphic>
          <a:graphicData uri="http://schemas.openxmlformats.org/drawingml/2006/table">
            <a:tbl>
              <a:tblPr/>
              <a:tblGrid>
                <a:gridCol w="1224000"/>
                <a:gridCol w="1800360"/>
                <a:gridCol w="1584360"/>
                <a:gridCol w="369720"/>
                <a:gridCol w="754200"/>
                <a:gridCol w="550800"/>
                <a:gridCol w="2284560"/>
              </a:tblGrid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付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置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結果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イベン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-03-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依田紀基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四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電聖戦，電通大，調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-03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田中義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d on Tyg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EC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杯エキジビション，電通大，調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-0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沢一郎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囲碁電王戦，ニコニコ動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-02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江村棋弘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d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張豊猷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平田智也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-11-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河英一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三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寝屋川囲碁将棋まつり，寝屋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-06-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大表拓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d on Tyg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三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工知能学会全国大会，富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-03-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石田芳夫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四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電聖戦，電通大，調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-0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多賀文吾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d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EC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杯エキジビション，電通大，調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ここ一年の主なイベン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013 6/5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人工知能学会全国大会，富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013 6/7 - 1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FUZZ-IEEE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，イン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013 8/12 - 18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ja-JP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Computer Olympiad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，横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013 10/5, 6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CGF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オープン，電通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013 11/8, 9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GPW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杯，箱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013 11/23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第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10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回寝屋川囲碁将棋まつ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014 2/11, 16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第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回囲碁電王戦，ニコニコ動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014 3/15, 16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EC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杯，電通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014 3/21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第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回電聖戦，電通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毎月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KGS bot tourn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mputer Olympiad Yokoh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8/18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8/26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日間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慶應義塾大学の日吉キャンパスにある協生館で開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Computer Games Conference (CG2013), Computer Games and Intelligence Workshop (CGIW2013)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同時開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9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13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19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他にチェス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普通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Software, Blitz), Chinese (Dark) Chess, Einstein würfeit nicht!, Amazons, Backgammon, Clobber, Connect6, Dots and Boxes, Draughts, Hex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将棋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Havannah, No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碁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Phantom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碁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Suraka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(9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1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目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局一組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15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1360" y="2205000"/>
          <a:ext cx="7186320" cy="4016520"/>
        </p:xfrm>
        <a:graphic>
          <a:graphicData uri="http://schemas.openxmlformats.org/drawingml/2006/table">
            <a:tbl>
              <a:tblPr/>
              <a:tblGrid>
                <a:gridCol w="712800"/>
                <a:gridCol w="1512720"/>
                <a:gridCol w="628560"/>
                <a:gridCol w="354240"/>
                <a:gridCol w="353880"/>
                <a:gridCol w="353880"/>
                <a:gridCol w="354240"/>
                <a:gridCol w="353880"/>
                <a:gridCol w="353880"/>
                <a:gridCol w="354240"/>
                <a:gridCol w="311040"/>
                <a:gridCol w="311040"/>
                <a:gridCol w="438480"/>
                <a:gridCol w="793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i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mil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t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(13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3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58680" y="2205000"/>
          <a:ext cx="6299280" cy="3206880"/>
        </p:xfrm>
        <a:graphic>
          <a:graphicData uri="http://schemas.openxmlformats.org/drawingml/2006/table">
            <a:tbl>
              <a:tblPr/>
              <a:tblGrid>
                <a:gridCol w="793800"/>
                <a:gridCol w="1760400"/>
                <a:gridCol w="932040"/>
                <a:gridCol w="336600"/>
                <a:gridCol w="336600"/>
                <a:gridCol w="336240"/>
                <a:gridCol w="336600"/>
                <a:gridCol w="336600"/>
                <a:gridCol w="336600"/>
                <a:gridCol w="793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th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(19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45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28800" y="2190600"/>
          <a:ext cx="6400800" cy="3206880"/>
        </p:xfrm>
        <a:graphic>
          <a:graphicData uri="http://schemas.openxmlformats.org/drawingml/2006/table">
            <a:tbl>
              <a:tblPr/>
              <a:tblGrid>
                <a:gridCol w="793440"/>
                <a:gridCol w="1862280"/>
                <a:gridCol w="932040"/>
                <a:gridCol w="336240"/>
                <a:gridCol w="336600"/>
                <a:gridCol w="336600"/>
                <a:gridCol w="336600"/>
                <a:gridCol w="336600"/>
                <a:gridCol w="336600"/>
                <a:gridCol w="793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th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GPW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杯 コンピュータ囲碁大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125000"/>
            <a:ext cx="9137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1/4, 5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の夜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箱根の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GPW-13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会場で開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日本から計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が参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は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切れ負け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先後交代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局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13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は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同時進行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04800" y="3068640"/>
          <a:ext cx="8926560" cy="3162240"/>
        </p:xfrm>
        <a:graphic>
          <a:graphicData uri="http://schemas.openxmlformats.org/drawingml/2006/table">
            <a:tbl>
              <a:tblPr/>
              <a:tblGrid>
                <a:gridCol w="1319400"/>
                <a:gridCol w="2346120"/>
                <a:gridCol w="1874880"/>
                <a:gridCol w="692280"/>
                <a:gridCol w="269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作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所属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ハードウェ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山下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pad X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下川和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電通大村松研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5 M5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mi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周政緯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顏士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7 Q720 1.6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m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増子直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東大田中研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Book Air 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荒木伸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株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ジーサー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Duo 1.83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a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野中翔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中村貞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九工大中村研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's N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尾島陽児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pad X20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対戦表（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&amp; 13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15800" y="836640"/>
          <a:ext cx="9299880" cy="2793960"/>
        </p:xfrm>
        <a:graphic>
          <a:graphicData uri="http://schemas.openxmlformats.org/drawingml/2006/table">
            <a:tbl>
              <a:tblPr/>
              <a:tblGrid>
                <a:gridCol w="1355760"/>
                <a:gridCol w="662040"/>
                <a:gridCol w="1254240"/>
                <a:gridCol w="669960"/>
                <a:gridCol w="1101600"/>
                <a:gridCol w="1130400"/>
                <a:gridCol w="793800"/>
                <a:gridCol w="1538280"/>
                <a:gridCol w="793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Coldmil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Nona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プレーオフ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mil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a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15800" y="3719520"/>
          <a:ext cx="7599600" cy="2733840"/>
        </p:xfrm>
        <a:graphic>
          <a:graphicData uri="http://schemas.openxmlformats.org/drawingml/2006/table">
            <a:tbl>
              <a:tblPr/>
              <a:tblGrid>
                <a:gridCol w="1355760"/>
                <a:gridCol w="838440"/>
                <a:gridCol w="661680"/>
                <a:gridCol w="669960"/>
                <a:gridCol w="1254240"/>
                <a:gridCol w="1231920"/>
                <a:gridCol w="793800"/>
                <a:gridCol w="793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Bla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Coldmil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Goem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mil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m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8795880" y="56358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857440" y="4292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048520" y="5877000"/>
            <a:ext cx="7207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9129600" y="3715920"/>
            <a:ext cx="0" cy="576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コンピュータ・ゲーム大会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台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CGA 2013 (6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および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AAI 2013 (12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共に開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(9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13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19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の他に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Chinese Chess, Chinese Dark Chess, Connect6,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麻雀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五五将棋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Nonograms, Nonograms Solver, No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碁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Killal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碁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オセロ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今年は外国勢は不参加らしい（除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MoGoTW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詳細不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4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4-04-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5:24:11Z</dcterms:created>
  <dc:creator>Hideki Kato</dc:creator>
  <dc:description/>
  <dc:language>en-US</dc:language>
  <cp:lastModifiedBy>Hideki</cp:lastModifiedBy>
  <dcterms:modified xsi:type="dcterms:W3CDTF">2014-04-12T00:09:15Z</dcterms:modified>
  <cp:revision>367</cp:revision>
  <dc:subject/>
  <dc:title>2007-04-14 CGF モンテカルロ碁</dc:title>
</cp:coreProperties>
</file>